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7008813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970-88B8-4AB3-B8DD-A890E5BD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052-8530-4159-B65C-F66F0E4D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940-E4F2-46D0-8890-C78DD7E4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86C-0AFA-43F7-9E39-A154B61A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B0F-0FD4-47BF-91A1-5FFEA15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C26-5D94-4BDD-AA4C-9F78983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95A-2801-4007-9623-0D4AB194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BE4-FB74-4C0C-90A9-1439BE0E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335-648D-4C4F-908F-5066895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661-63C1-4092-8DC5-3394043C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482-56BB-4938-BE90-A23817D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E36-84E6-42A3-AA6B-F233401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631-2DB3-49C8-A244-F227D1305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727280"/>
            <a:ext cx="62866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 results of the observation-based air-sea exchange coefficients (Cd and Ch) of HWRF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ng K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762120"/>
          <a:ext cx="60962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6096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57200" y="5257800"/>
          <a:ext cx="609588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6095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981080" y="533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sity B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844236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momentum Zo and thermal Zo instead of directly modifying Cd /Ch (Bob Tuleya, Issac Gin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experiments to improve the boundary layer physics of HWRF (J. Han GFS physics 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844236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0"/>
          <a:ext cx="6248160" cy="46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62481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880" y="4446720"/>
          <a:ext cx="6248520" cy="469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446720"/>
                    <a:ext cx="62485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57400" y="17524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r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0574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895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2003 Po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581280" y="2437920"/>
            <a:ext cx="381240" cy="3812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r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7543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CB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66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 of Ch over Cd (Ch/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2362320"/>
          <a:ext cx="6858000" cy="51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6858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57200" y="4419720"/>
            <a:ext cx="586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6019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: 2003 Po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: CBALST (Jun Zhang et al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rrica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.08.15.18 – 2008.08.24.00 (33 ru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rrica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st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.08.25.12 – 2008.09.01.18 (30 ru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rrica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. 08.28.06 – 2008.09.07.00 (39 ru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rrica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.09.01.12 – 2008.09.14.06 (52 ru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number of runs: 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54380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48N:operational HWRF with new GFS (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5_5:as H48N except new sfc physics 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858000" cy="441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0" y="36576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x. Improvement: ~ 22% (4.3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914400"/>
          <a:ext cx="5638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5638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5267160"/>
          <a:ext cx="5562720" cy="3876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67160"/>
                    <a:ext cx="55627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981080" y="609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sity B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029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2133720"/>
          <a:ext cx="6858000" cy="515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6858000" cy="51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57200" y="1371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superi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845820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6858000" cy="432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4871880"/>
            <a:ext cx="6858000" cy="427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844236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6576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x. Improvement: ~ 35% (8.0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858000" cy="4267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829040"/>
            <a:ext cx="6858000" cy="4314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10080" y="34920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80060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657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x. Improvement: ~ 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844236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5:55:11Z</dcterms:created>
  <dc:creator>ykwon</dc:creator>
  <dc:description/>
  <dc:language>en-US</dc:language>
  <cp:lastModifiedBy>ykwon</cp:lastModifiedBy>
  <dcterms:modified xsi:type="dcterms:W3CDTF">2010-01-20T18:18:38Z</dcterms:modified>
  <cp:revision>27</cp:revision>
  <dc:subject/>
  <dc:title>Slide 1</dc:title>
</cp:coreProperties>
</file>